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29.png" ContentType="image/png"/>
  <Override PartName="/ppt/media/image2.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0.png" ContentType="image/png"/>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9516-3FB8-4444-A516-400E8DE02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 spacing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C6D3E-970B-4022-B262-8AC14511F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2929-2755-4BE4-8BE2-73BE4CF7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5AFF0-E668-480E-BC98-75BF4756C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19AA-9F61-4FB8-9762-9B2C091B9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99DD3-0E02-4CF0-B3E2-1C107F659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36A74-B067-4902-B38E-5E6182A3B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051E8-5714-4838-9D00-FA6E032BC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BDAED-92ED-4697-8FB6-86CF8AF1A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2476C-B091-4FA5-A4CE-9B97EB12B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6E165-5E29-48B2-B911-1AAE86EB7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F8BE-4F75-4BF2-B8FC-3D97D0604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047E-4272-4428-9AA8-EAAF0A0B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3C2C2-4DA5-459C-9E7D-6F40EB796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3072-E6A0-4A4C-8B67-7DB3AAD77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D33B7-45DD-47F6-B9C5-EC4C22694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FEFD6-321C-4CB0-8CA5-DBD611628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AE52A-270C-416F-B849-F92CE01C5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3B7576-BBE9-43CB-AEA7-14E7FA7C8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54D910-4107-4450-A2F4-8A3495687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3EE847-4552-4710-A9E1-DD0C3C53E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A6619D-063A-4858-8EF0-C396F6C18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EEEAEC-C1EF-4340-9C2A-EB15F01A0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2CDF-F398-4D75-B2E4-E5FAF5B7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8D3071-E83B-4587-86CB-3BBF8AD3D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CA424D-50B4-4B41-99BD-5808F8D31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357449-4321-4E44-A75E-B0DF375D7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C7C227-2DA1-4822-8AF8-577B53958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363F15-C28E-41FA-BFA4-A51868973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7F7200-BF88-49C5-8BC8-CA0E2FB6F2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A67FA0-144A-4D70-93FD-B170B32195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CDEB82-6E2E-47CC-860C-6B5CA95167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96E9C3-E439-4C19-84D1-5A947F624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46ABF7-3966-4373-90A6-BEE717809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E38D-C82B-461F-9B90-1203FA00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36A09B-284A-42FC-97FB-270BB56C9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D3CDD60-6711-4434-A7C7-D46C2A026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DFEE4C-4C91-47EC-83AE-10BC0833C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E1C9E0-6C95-4462-8CB6-3569F13F5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4C6F76-D004-45DF-97BE-19B591FC7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72B9DA-BC75-4987-8F6D-2E6BD736A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3BF027-7B11-4D87-95B9-3DE8424F2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15F0EB-E264-42C2-BD1C-54456A345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52BF51-1A10-4A00-9638-DFC457ECE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73560E-44C8-43C1-BA09-295045F7FD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2622-A205-4112-89C7-6AF643E9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BA45D6-D682-466E-B588-5F4F55216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DB285E-419E-484A-AA19-869B80F0A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356AE5-9F39-4E6C-BA54-E588364F0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DC0024-4A44-43CD-807A-F5D428E15D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301010-5A0B-46CA-A252-53A16BD0D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4ABA0A-3913-430E-A01F-CA2439440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E441B8-1684-46CC-B151-94B215B6D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973824-7B57-4656-9854-69925C671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9448C7-C157-4519-AE9F-F8F58E13D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89AA50-7FD0-4C33-8BF3-E34C7ABAAA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9A0E-EBD8-4A11-90B9-EF502575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465204-8EA2-44D6-B282-C454E1F406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875C78-BC2A-4C69-A505-B04B18C6E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26DF0-0A3C-410C-8AF4-1BFDA056A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D530F-2946-46C3-86C4-B4938EAC5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27B7F-8B2C-466A-ABB8-9007A4075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1AB53-C074-4938-AACE-D8BBB3DCA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73FF1-9709-4E1D-98A3-CA46E29E8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A4CF8-B5CF-418B-9EC1-3E9207E24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1C9C1-87E4-46CB-8D53-C398A4871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5E519-F489-4333-B944-6E6145EFA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2411-5240-4DAF-BA1F-B6D314F8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A3B75-C4AA-4454-9A6F-7BBE1F932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B3B42-C238-4C6D-9187-FFE52BD2E0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97AE59-8B4C-428F-85FB-0ABCD4A70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B3AAED0-C418-4685-89E6-94CA6AFD3F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C87C74-1956-417E-B294-15F8DAEB5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A9CA7AF-2F8D-4469-B449-7E2435C44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D65859-4638-49BF-BB70-A370A4DE9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9A6D67D-333E-4665-8099-D36E77575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DEC6CE-3AB9-422F-94D6-C083F986E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31B2E6-5431-46AB-A244-C540D4C97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EBC8-4526-4204-93C1-3554596B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DBAEA2-5629-4AF7-BDDD-8EA0025EC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24CA36-A275-4D5A-911C-13153BCE3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8D2B39-B5DB-4914-9079-D0B88F6943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36606B-5D56-41D9-ADDA-04962F40B3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902B5DA-9875-4E06-8630-4980305508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5E25AE-4DF9-4F18-83F9-CAD2EBE56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01996-458E-4A60-A68D-C060F39633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E012E-18CE-4201-A39E-39A22F853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5FE10-B003-4693-9D3E-708169D8B9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B734FE-E6B1-4394-BAEC-E134DD49E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8638B-6C27-46A6-BF78-3FF5234B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B50FD2-70D4-4727-80CA-1603AF41E7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EB2A5-8B6A-4C88-89B5-047A5EFB58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D75B2-C612-4035-B7C6-A1E1903D7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2CD25-786F-4178-8E46-A402A19E9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70C2B4-A140-4213-BFB6-BC2A9B85CB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146CA-3E94-434E-A138-00505C850F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D9CC10-2BF4-4FEF-885B-9B0694AD18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5D57-1804-4FAB-8D9D-A20F436F908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8F5A-9C02-485F-9A91-8374359A7FE6}"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C20E-329A-462F-AF08-BA82B9C0ED16}"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48F4-E47C-4946-A11B-1692B90563B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5A93-7FA3-4BD0-A526-FE3890AFBC2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7651-B6CA-4B4D-8B5E-0798F605F345}"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7B7C-AA4D-4E89-87C4-2976160FB11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0CA3-53B8-436F-A8A0-232BDC26092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preadsheets.google.com/ccc?key=0AoN5XJ7COEg_dEU4RnByUDVkck1LMWtZb2ItcjlvVnc&amp;hl=en" TargetMode="External"/><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hyperlink" Target="http://www.google.com/privacypolic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0" y="144792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ministrative assistants at Mount St. Mary's University need a more efficient way to collect and organize data from student course and instructor evaluations. The current hard copy and manual input approach is inconvenient and inefficient. This training focuses using Google Docs, specifically the forms tool to create and administer student evaluations entirely electronically. This wiki will take learners through a step-by-step, hands-on process to learn the basics of Google Docs for the purpose of collecting student evaluation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8" name="Picture 3" descr=""/>
          <p:cNvPicPr/>
          <p:nvPr/>
        </p:nvPicPr>
        <p:blipFill>
          <a:blip r:embed="rId1"/>
          <a:stretch/>
        </p:blipFill>
        <p:spPr>
          <a:xfrm>
            <a:off x="3352680" y="1676520"/>
            <a:ext cx="2610000" cy="1400040"/>
          </a:xfrm>
          <a:prstGeom prst="rect">
            <a:avLst/>
          </a:prstGeom>
          <a:ln w="0">
            <a:noFill/>
          </a:ln>
        </p:spPr>
      </p:pic>
      <p:sp>
        <p:nvSpPr>
          <p:cNvPr id="359" name="TextBox 5"/>
          <p:cNvSpPr/>
          <p:nvPr/>
        </p:nvSpPr>
        <p:spPr>
          <a:xfrm>
            <a:off x="3352680" y="3048120"/>
            <a:ext cx="266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dannsullivan Flickr.com</a:t>
            </a:r>
            <a:endParaRPr b="0" lang="en-US" sz="1200" spc="-1" strike="noStrike">
              <a:solidFill>
                <a:srgbClr val="000000"/>
              </a:solidFill>
              <a:latin typeface="Arial"/>
            </a:endParaRPr>
          </a:p>
        </p:txBody>
      </p:sp>
      <p:pic>
        <p:nvPicPr>
          <p:cNvPr id="360" name="TextBox 6" descr=""/>
          <p:cNvPicPr/>
          <p:nvPr/>
        </p:nvPicPr>
        <p:blipFill>
          <a:blip r:embed="rId2"/>
          <a:stretch/>
        </p:blipFill>
        <p:spPr>
          <a:xfrm>
            <a:off x="450720" y="42840"/>
            <a:ext cx="8474040" cy="17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4343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Activated</a:t>
            </a:r>
            <a:endParaRPr b="0" lang="en-US" sz="4400" spc="-1" strike="noStrike">
              <a:solidFill>
                <a:srgbClr val="775f55"/>
              </a:solidFill>
              <a:latin typeface="Tw Cen MT"/>
            </a:endParaRPr>
          </a:p>
        </p:txBody>
      </p:sp>
      <p:sp>
        <p:nvSpPr>
          <p:cNvPr id="38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 now have a Google Docs account that is easily accessible from anywhere!</a:t>
            </a:r>
            <a:endParaRPr b="0" lang="en-US" sz="18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ke this opportunity to practice accessing your account by logging off and logging back on with your username and password.</a:t>
            </a:r>
            <a:endParaRPr b="0" lang="en-US" sz="1800" spc="-1" strike="noStrike">
              <a:solidFill>
                <a:srgbClr val="000000"/>
              </a:solidFill>
              <a:latin typeface="Tw Cen MT"/>
            </a:endParaRPr>
          </a:p>
        </p:txBody>
      </p:sp>
      <p:pic>
        <p:nvPicPr>
          <p:cNvPr id="386" name="Picture 4" descr="account activated"/>
          <p:cNvPicPr/>
          <p:nvPr/>
        </p:nvPicPr>
        <p:blipFill>
          <a:blip r:embed="rId1"/>
          <a:stretch/>
        </p:blipFill>
        <p:spPr>
          <a:xfrm>
            <a:off x="0" y="3633840"/>
            <a:ext cx="9144000" cy="3224160"/>
          </a:xfrm>
          <a:prstGeom prst="rect">
            <a:avLst/>
          </a:prstGeom>
          <a:ln w="0">
            <a:noFill/>
          </a:ln>
        </p:spPr>
      </p:pic>
      <p:pic>
        <p:nvPicPr>
          <p:cNvPr id="387" name="Picture 10" descr="C:\Users\cregan\AppData\Local\Microsoft\Windows\Temporary Internet Files\Content.IE5\XZ9WRMTL\MCj00787720000[1].wmf"/>
          <p:cNvPicPr/>
          <p:nvPr/>
        </p:nvPicPr>
        <p:blipFill>
          <a:blip r:embed="rId2">
            <a:grayscl/>
          </a:blip>
          <a:stretch/>
        </p:blipFill>
        <p:spPr>
          <a:xfrm>
            <a:off x="7086600" y="152280"/>
            <a:ext cx="182880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9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ART II: USING GOOGLE DOCS</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89" name="PlaceHolder 2"/>
          <p:cNvSpPr>
            <a:spLocks noGrp="1"/>
          </p:cNvSpPr>
          <p:nvPr>
            <p:ph type="subTitle"/>
          </p:nvPr>
        </p:nvSpPr>
        <p:spPr>
          <a:xfrm>
            <a:off x="762120" y="4343400"/>
            <a:ext cx="7772400" cy="120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on’t worry, it is very user friendly!</a:t>
            </a:r>
            <a:endParaRPr b="0" lang="en-US" sz="2600" spc="-1" strike="noStrike">
              <a:solidFill>
                <a:srgbClr val="ffffff"/>
              </a:solidFill>
              <a:latin typeface="Tw Cen MT"/>
            </a:endParaRPr>
          </a:p>
        </p:txBody>
      </p:sp>
      <p:pic>
        <p:nvPicPr>
          <p:cNvPr id="390" name="Picture 2" descr="C:\Users\cregan\AppData\Local\Microsoft\Windows\Temporary Internet Files\Content.IE5\69PE0ZUL\MCj04258080000[1].wmf"/>
          <p:cNvPicPr/>
          <p:nvPr/>
        </p:nvPicPr>
        <p:blipFill>
          <a:blip r:embed="rId1"/>
          <a:stretch/>
        </p:blipFill>
        <p:spPr>
          <a:xfrm>
            <a:off x="3657600" y="2362320"/>
            <a:ext cx="194004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04760" y="3045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gle Tools</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Now that you have an account, we can begin learning how to use Google Docs! You need to be able to differentiate between the tools that are offered.  Take some time to explore these different tools.</a:t>
            </a:r>
            <a:br>
              <a:rPr sz="1500"/>
            </a:b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Google Docs has a variety of useful tools, but we will only be focusing on the tool used to create forms, or in this case, evaluations.  Preview a sample by clicking here. </a:t>
            </a:r>
            <a:endParaRPr b="0" lang="en-US" sz="1500" spc="-1" strike="noStrike">
              <a:solidFill>
                <a:srgbClr val="000000"/>
              </a:solidFill>
              <a:latin typeface="Tw Cen MT"/>
            </a:endParaRPr>
          </a:p>
          <a:p>
            <a:pPr marL="302760" indent="-3027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Sample Evaluation Form</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Note (This is in spreadsheet format.  You will learn later how to access the actual evaluation)</a:t>
            </a:r>
            <a:endParaRPr b="0" lang="en-US" sz="1500" spc="-1" strike="noStrike">
              <a:solidFill>
                <a:srgbClr val="000000"/>
              </a:solidFill>
              <a:latin typeface="Tw Cen MT"/>
            </a:endParaRPr>
          </a:p>
          <a:p>
            <a:pPr marL="302760" indent="-302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graphicFrame>
        <p:nvGraphicFramePr>
          <p:cNvPr id="393" name=""/>
          <p:cNvGraphicFramePr/>
          <p:nvPr/>
        </p:nvGraphicFramePr>
        <p:xfrm>
          <a:off x="1447920" y="2514600"/>
          <a:ext cx="6095880" cy="185724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Google Do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Microsoft Office Equival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ocu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s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preadshe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c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pic>
        <p:nvPicPr>
          <p:cNvPr id="394" name="Picture 2" descr="C:\Program Files\Microsoft Office\MEDIA\CAGCAT10\j0199727.wmf"/>
          <p:cNvPicPr/>
          <p:nvPr/>
        </p:nvPicPr>
        <p:blipFill>
          <a:blip r:embed="rId2"/>
          <a:stretch/>
        </p:blipFill>
        <p:spPr>
          <a:xfrm>
            <a:off x="7315200" y="0"/>
            <a:ext cx="139536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272520"/>
            <a:ext cx="441936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en a New Form</a:t>
            </a:r>
            <a:endParaRPr b="0" lang="en-US" sz="4400" spc="-1" strike="noStrike">
              <a:solidFill>
                <a:srgbClr val="775f55"/>
              </a:solidFill>
              <a:latin typeface="Tw Cen MT"/>
            </a:endParaRPr>
          </a:p>
        </p:txBody>
      </p:sp>
      <p:sp>
        <p:nvSpPr>
          <p:cNvPr id="396" name=""/>
          <p:cNvSpPr txBox="1"/>
          <p:nvPr/>
        </p:nvSpPr>
        <p:spPr>
          <a:xfrm>
            <a:off x="4800240" y="2286000"/>
            <a:ext cx="3886200" cy="3581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the top left corner of your Google Docs you will see a tab that says Create Ne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it and choose the Form too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97" name="Picture 3" descr="New_Form.png"/>
          <p:cNvPicPr/>
          <p:nvPr/>
        </p:nvPicPr>
        <p:blipFill>
          <a:blip r:embed="rId1"/>
          <a:stretch/>
        </p:blipFill>
        <p:spPr>
          <a:xfrm>
            <a:off x="838080" y="1752480"/>
            <a:ext cx="3200400" cy="4656240"/>
          </a:xfrm>
          <a:prstGeom prst="rect">
            <a:avLst/>
          </a:prstGeom>
          <a:ln w="0">
            <a:noFill/>
          </a:ln>
        </p:spPr>
      </p:pic>
      <p:pic>
        <p:nvPicPr>
          <p:cNvPr id="398" name="Picture 5" descr="C:\Users\cregan\AppData\Local\Microsoft\Windows\Temporary Internet Files\Content.IE5\L0IH70C8\MCj04414480000[1].png"/>
          <p:cNvPicPr/>
          <p:nvPr/>
        </p:nvPicPr>
        <p:blipFill>
          <a:blip r:embed="rId2"/>
          <a:stretch/>
        </p:blipFill>
        <p:spPr>
          <a:xfrm>
            <a:off x="6553080" y="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the Form</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screen will appear in a new window. Click the Save button in the top right hand corner then close out of the form. Hit the refresh button on your internet browser.</a:t>
            </a:r>
            <a:endParaRPr b="0" lang="en-US" sz="1800" spc="-1" strike="noStrike">
              <a:solidFill>
                <a:srgbClr val="000000"/>
              </a:solidFill>
              <a:latin typeface="Tw Cen MT"/>
            </a:endParaRPr>
          </a:p>
        </p:txBody>
      </p:sp>
      <p:pic>
        <p:nvPicPr>
          <p:cNvPr id="401" name="Picture 7" descr="Save_New_Form.png"/>
          <p:cNvPicPr/>
          <p:nvPr/>
        </p:nvPicPr>
        <p:blipFill>
          <a:blip r:embed="rId1"/>
          <a:stretch/>
        </p:blipFill>
        <p:spPr>
          <a:xfrm>
            <a:off x="609480" y="2590920"/>
            <a:ext cx="8355240" cy="40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name the Form</a:t>
            </a:r>
            <a:endParaRPr b="0" lang="en-US" sz="4400" spc="-1" strike="noStrike">
              <a:solidFill>
                <a:srgbClr val="775f55"/>
              </a:solidFill>
              <a:latin typeface="Tw Cen MT"/>
            </a:endParaRPr>
          </a:p>
        </p:txBody>
      </p:sp>
      <p:pic>
        <p:nvPicPr>
          <p:cNvPr id="403" name="Content Placeholder 3" descr="Rename_new_form.png"/>
          <p:cNvPicPr/>
          <p:nvPr/>
        </p:nvPicPr>
        <p:blipFill>
          <a:blip r:embed="rId1"/>
          <a:stretch/>
        </p:blipFill>
        <p:spPr>
          <a:xfrm>
            <a:off x="457200" y="1676520"/>
            <a:ext cx="8153280" cy="1073160"/>
          </a:xfrm>
          <a:prstGeom prst="rect">
            <a:avLst/>
          </a:prstGeom>
          <a:ln w="0">
            <a:noFill/>
          </a:ln>
        </p:spPr>
      </p:pic>
      <p:sp>
        <p:nvSpPr>
          <p:cNvPr id="404" name="TextBox 4"/>
          <p:cNvSpPr/>
          <p:nvPr/>
        </p:nvSpPr>
        <p:spPr>
          <a:xfrm>
            <a:off x="304920" y="2917800"/>
            <a:ext cx="8534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ba79d"/>
                </a:solidFill>
                <a:uFillTx/>
                <a:latin typeface="Tw Cen MT"/>
              </a:rPr>
              <a:t>Some things to keep in mind when naming your fo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w Cen MT"/>
              </a:rPr>
              <a:t>Later in the training we will learn how to export the completed evaluation summaries to either a PDF or an Excel file. When you do this the computer will want to save it as the title you give it here.</a:t>
            </a:r>
            <a:br>
              <a:rPr sz="1800"/>
            </a:br>
            <a:br>
              <a:rPr sz="1800"/>
            </a:br>
            <a:r>
              <a:rPr b="0" lang="en-US" sz="1800" spc="-1" strike="noStrike">
                <a:solidFill>
                  <a:srgbClr val="000000"/>
                </a:solidFill>
                <a:latin typeface="Tw Cen MT"/>
              </a:rPr>
              <a:t>In order to keep the Shared Secretaries folder organized, it is best to have a standard naming procedure. Choose a mock name to title and follow this form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Tw Cen MT"/>
              </a:rPr>
              <a:t>Smith, J. BUS 303 B Fall 20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 "Enter" after you name the form. If you make a mistake or decide you want a different name, you can always “Renam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nge the Theme</a:t>
            </a:r>
            <a:endParaRPr b="0" lang="en-US" sz="4400" spc="-1" strike="noStrike">
              <a:solidFill>
                <a:srgbClr val="775f55"/>
              </a:solidFill>
              <a:latin typeface="Tw Cen MT"/>
            </a:endParaRPr>
          </a:p>
        </p:txBody>
      </p:sp>
      <p:pic>
        <p:nvPicPr>
          <p:cNvPr id="406" name="Content Placeholder 3" descr="change_the_theme.png"/>
          <p:cNvPicPr/>
          <p:nvPr/>
        </p:nvPicPr>
        <p:blipFill>
          <a:blip r:embed="rId1"/>
          <a:stretch/>
        </p:blipFill>
        <p:spPr>
          <a:xfrm>
            <a:off x="3048120" y="1600200"/>
            <a:ext cx="5887800" cy="5257800"/>
          </a:xfrm>
          <a:prstGeom prst="rect">
            <a:avLst/>
          </a:prstGeom>
          <a:ln w="0">
            <a:noFill/>
          </a:ln>
        </p:spPr>
      </p:pic>
      <p:sp>
        <p:nvSpPr>
          <p:cNvPr id="407" name="TextBox 4"/>
          <p:cNvSpPr/>
          <p:nvPr/>
        </p:nvSpPr>
        <p:spPr>
          <a:xfrm>
            <a:off x="152280" y="1600200"/>
            <a:ext cx="22860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Click the button second to the left that says Theme: Plain....</a:t>
            </a:r>
            <a:endParaRPr b="0" lang="en-US" sz="1500" spc="-1" strike="noStrike">
              <a:solidFill>
                <a:srgbClr val="000000"/>
              </a:solidFill>
              <a:latin typeface="Arial"/>
            </a:endParaRPr>
          </a:p>
        </p:txBody>
      </p:sp>
      <p:cxnSp>
        <p:nvCxnSpPr>
          <p:cNvPr id="408" name="Straight Arrow Connector 6"/>
          <p:cNvCxnSpPr/>
          <p:nvPr/>
        </p:nvCxnSpPr>
        <p:spPr>
          <a:xfrm flipV="1">
            <a:off x="1523520" y="1904760"/>
            <a:ext cx="2515320" cy="305280"/>
          </a:xfrm>
          <a:prstGeom prst="straightConnector1">
            <a:avLst/>
          </a:prstGeom>
          <a:ln w="19080">
            <a:solidFill>
              <a:srgbClr val="dd8047"/>
            </a:solidFill>
            <a:miter/>
            <a:tailEnd len="med" type="arrow" w="med"/>
          </a:ln>
        </p:spPr>
      </p:cxnSp>
      <p:sp>
        <p:nvSpPr>
          <p:cNvPr id="409" name="Rectangle 8"/>
          <p:cNvSpPr/>
          <p:nvPr/>
        </p:nvSpPr>
        <p:spPr>
          <a:xfrm>
            <a:off x="4038480" y="1676520"/>
            <a:ext cx="838440" cy="228600"/>
          </a:xfrm>
          <a:prstGeom prst="rect">
            <a:avLst/>
          </a:prstGeom>
          <a:noFill/>
          <a:ln w="57240">
            <a:solidFill>
              <a:srgbClr val="ff0000"/>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360" y="228600"/>
            <a:ext cx="8379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dentify Different Types of Question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re are a variety of different types of questions you can use in Google forms. Take a look at the chart below and take a few minutes to explore the different types of questions on your live form. Look at last semester's hard copy evaluations I have given you.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4" marL="1828800" indent="-22860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Which type of question might you use on </a:t>
            </a:r>
            <a:r>
              <a:rPr b="0" lang="en-US" sz="2400" spc="-1" strike="noStrike">
                <a:solidFill>
                  <a:srgbClr val="000000"/>
                </a:solidFill>
                <a:latin typeface="Tw Cen MT"/>
              </a:rPr>
              <a:t>	</a:t>
            </a:r>
            <a:r>
              <a:rPr b="0" lang="en-US" sz="2400" spc="-1" strike="noStrike">
                <a:solidFill>
                  <a:srgbClr val="000000"/>
                </a:solidFill>
                <a:latin typeface="Tw Cen MT"/>
              </a:rPr>
              <a:t>Google Docs to match the format on the </a:t>
            </a:r>
            <a:r>
              <a:rPr b="0" lang="en-US" sz="2400" spc="-1" strike="noStrike">
                <a:solidFill>
                  <a:srgbClr val="000000"/>
                </a:solidFill>
                <a:latin typeface="Tw Cen MT"/>
              </a:rPr>
              <a:t>	</a:t>
            </a:r>
            <a:r>
              <a:rPr b="0" lang="en-US" sz="2400" spc="-1" strike="noStrike">
                <a:solidFill>
                  <a:srgbClr val="000000"/>
                </a:solidFill>
                <a:latin typeface="Tw Cen MT"/>
              </a:rPr>
              <a:t>hard copi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12" name="Picture 3" descr="kinds_of_questions.png"/>
          <p:cNvPicPr/>
          <p:nvPr/>
        </p:nvPicPr>
        <p:blipFill>
          <a:blip r:embed="rId1"/>
          <a:stretch/>
        </p:blipFill>
        <p:spPr>
          <a:xfrm>
            <a:off x="914400" y="2843280"/>
            <a:ext cx="2209680" cy="40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dd and Edit Questions</a:t>
            </a: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he following link to view video:</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 and Edit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dd the University’s 6 Common Questions</a:t>
            </a:r>
            <a:endParaRPr b="0" lang="en-US" sz="3600" spc="-1" strike="noStrike">
              <a:solidFill>
                <a:srgbClr val="775f55"/>
              </a:solidFill>
              <a:latin typeface="Tw Cen MT"/>
            </a:endParaRPr>
          </a:p>
        </p:txBody>
      </p:sp>
      <p:pic>
        <p:nvPicPr>
          <p:cNvPr id="416" name="Picture 6" descr=""/>
          <p:cNvPicPr/>
          <p:nvPr/>
        </p:nvPicPr>
        <p:blipFill>
          <a:blip r:embed="rId1"/>
          <a:stretch/>
        </p:blipFill>
        <p:spPr>
          <a:xfrm>
            <a:off x="228600" y="1828800"/>
            <a:ext cx="1523880" cy="1087560"/>
          </a:xfrm>
          <a:prstGeom prst="rect">
            <a:avLst/>
          </a:prstGeom>
          <a:ln w="0">
            <a:noFill/>
          </a:ln>
        </p:spPr>
      </p:pic>
      <p:graphicFrame>
        <p:nvGraphicFramePr>
          <p:cNvPr id="417" name="Object 4"/>
          <p:cNvGraphicFramePr/>
          <p:nvPr/>
        </p:nvGraphicFramePr>
        <p:xfrm>
          <a:off x="1981080" y="1523880"/>
          <a:ext cx="7772400" cy="5007240"/>
        </p:xfrm>
        <a:graphic>
          <a:graphicData uri="http://schemas.openxmlformats.org/presentationml/2006/ole">
            <p:oleObj progId="Word.Document.12" r:id="rId2" spid="">
              <p:embed/>
              <p:pic>
                <p:nvPicPr>
                  <p:cNvPr id="418" name="Object 4" descr=""/>
                  <p:cNvPicPr/>
                  <p:nvPr/>
                </p:nvPicPr>
                <p:blipFill>
                  <a:blip r:embed="rId3"/>
                  <a:stretch/>
                </p:blipFill>
                <p:spPr>
                  <a:xfrm>
                    <a:off x="1981080" y="1523880"/>
                    <a:ext cx="7772400" cy="50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Google Docs</a:t>
            </a:r>
            <a:endParaRPr b="0" lang="en-US" sz="4400" spc="-1" strike="noStrike">
              <a:solidFill>
                <a:srgbClr val="000000"/>
              </a:solidFill>
              <a:latin typeface="Arial"/>
            </a:endParaRPr>
          </a:p>
        </p:txBody>
      </p:sp>
      <p:sp>
        <p:nvSpPr>
          <p:cNvPr id="362" name="Rectangle 4"/>
          <p:cNvSpPr/>
          <p:nvPr/>
        </p:nvSpPr>
        <p:spPr>
          <a:xfrm>
            <a:off x="304920" y="1676520"/>
            <a:ext cx="853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
          <p:cNvSpPr/>
          <p:nvPr/>
        </p:nvSpPr>
        <p:spPr>
          <a:xfrm>
            <a:off x="533520" y="1600200"/>
            <a:ext cx="82058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t's f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s only need web access to work with 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orks on any operat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y web browser can access the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work simultaneously on the same file and save work while other users edit the sam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of multiple computers don't need to save files lo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wnload a file locally in a familiar format if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s can always revert to a previous file ver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and Close</a:t>
            </a:r>
            <a:endParaRPr b="0" lang="en-US" sz="44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ven though Google Docs automatically saves your form periodically, it is always a good idea to save one final time before closing ou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Save in the right corner and then "X" out your form.</a:t>
            </a:r>
            <a:endParaRPr b="0" lang="en-US" sz="1800" spc="-1" strike="noStrike">
              <a:solidFill>
                <a:srgbClr val="000000"/>
              </a:solidFill>
              <a:latin typeface="Tw Cen MT"/>
            </a:endParaRPr>
          </a:p>
        </p:txBody>
      </p:sp>
      <p:pic>
        <p:nvPicPr>
          <p:cNvPr id="421" name="Picture 2" descr="C:\Users\cregan\AppData\Local\Microsoft\Windows\Temporary Internet Files\Content.IE5\L0IH70C8\MCj04421420000[1].png"/>
          <p:cNvPicPr/>
          <p:nvPr/>
        </p:nvPicPr>
        <p:blipFill>
          <a:blip r:embed="rId1"/>
          <a:stretch/>
        </p:blipFill>
        <p:spPr>
          <a:xfrm>
            <a:off x="3124080" y="3581280"/>
            <a:ext cx="280044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533160"/>
            <a:ext cx="9448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eck Email for Instructor's Sample Form</a:t>
            </a:r>
            <a:br>
              <a:rPr sz="4400"/>
            </a:br>
            <a:endParaRPr b="0" lang="en-US" sz="4400" spc="-1" strike="noStrike">
              <a:solidFill>
                <a:srgbClr val="775f55"/>
              </a:solidFill>
              <a:latin typeface="Tw Cen MT"/>
            </a:endParaRPr>
          </a:p>
        </p:txBody>
      </p:sp>
      <p:sp>
        <p:nvSpPr>
          <p:cNvPr id="423" name=""/>
          <p:cNvSpPr txBox="1"/>
          <p:nvPr/>
        </p:nvSpPr>
        <p:spPr>
          <a:xfrm>
            <a:off x="612720" y="1599840"/>
            <a:ext cx="8153280" cy="4876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w that you have added at least the 6 common questions you need to know how this evaluation form gets to your student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ch as I send you the sample form to fill out.  (Note: if you are “self-training” with this PowerPoint you can email me at cregan@msmary.edu to request that a form be sent to your email for practice purposes.  The remaining steps can all be completed using this sample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Mount email and fill out the </a:t>
            </a:r>
            <a:endParaRPr b="0" lang="en-US" sz="1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m embedded in the email. Hit Submit.</a:t>
            </a:r>
            <a:endParaRPr b="0" lang="en-US" sz="1800" spc="-1" strike="noStrike">
              <a:solidFill>
                <a:srgbClr val="000000"/>
              </a:solidFill>
              <a:latin typeface="Tw Cen MT"/>
            </a:endParaRPr>
          </a:p>
        </p:txBody>
      </p:sp>
      <p:pic>
        <p:nvPicPr>
          <p:cNvPr id="424" name="Picture 4" descr="send_instructor_form.png"/>
          <p:cNvPicPr/>
          <p:nvPr/>
        </p:nvPicPr>
        <p:blipFill>
          <a:blip r:embed="rId1"/>
          <a:stretch/>
        </p:blipFill>
        <p:spPr>
          <a:xfrm>
            <a:off x="5029200" y="3657600"/>
            <a:ext cx="3521160" cy="300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Publishing Your Form</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docs.google.com and log back into your Google Docs Account.</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pen up the form you created and saved. (Notice it is now in spreadsheet form.  We will discuss this in the next step.)</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o to Form (0) on the blue tool bar and click Send form (see above)</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ew window will open and the following dialog box will appear:</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eck your emails to ensure that you received each form. This was just for practice.  We will not be using these forms anymore for this training session.</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27" name="Picture 3" descr="send_form_2.png"/>
          <p:cNvPicPr/>
          <p:nvPr/>
        </p:nvPicPr>
        <p:blipFill>
          <a:blip r:embed="rId1"/>
          <a:stretch/>
        </p:blipFill>
        <p:spPr>
          <a:xfrm>
            <a:off x="1905120" y="3352680"/>
            <a:ext cx="5257800" cy="258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haring Your Form</a:t>
            </a:r>
            <a:endParaRPr b="0" lang="en-US" sz="4400" spc="-1" strike="noStrike">
              <a:solidFill>
                <a:srgbClr val="775f55"/>
              </a:solidFill>
              <a:latin typeface="Tw Cen MT"/>
            </a:endParaRPr>
          </a:p>
        </p:txBody>
      </p:sp>
      <p:sp>
        <p:nvSpPr>
          <p:cNvPr id="429" name=""/>
          <p:cNvSpPr txBox="1"/>
          <p:nvPr/>
        </p:nvSpPr>
        <p:spPr>
          <a:xfrm>
            <a:off x="609120" y="1523880"/>
            <a:ext cx="8153640" cy="50292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ou can also share your form and form results with others so they can view it. This can be useful for sharing results within the departments since not everyone has access to the Shared Secretaries Folde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 the top left of the blue tool bar click the drop down menu labeled Share. The following will appear:</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link should be highlighted blue. Right click and copy or press CTRL C to copy the link. Hit Save &amp; Close and your link is ready to be pasted in an email. It is best to use your Mount account if you have a group already created for your department.</a:t>
            </a:r>
            <a:endParaRPr b="0" lang="en-US" sz="16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se who receive this link have access to view the results.</a:t>
            </a:r>
            <a:endParaRPr b="0" lang="en-US" sz="1600" spc="-1" strike="noStrike">
              <a:solidFill>
                <a:srgbClr val="000000"/>
              </a:solidFill>
              <a:latin typeface="Tw Cen MT"/>
            </a:endParaRPr>
          </a:p>
        </p:txBody>
      </p:sp>
      <p:pic>
        <p:nvPicPr>
          <p:cNvPr id="430" name="Picture 3" descr="share_your_form.png"/>
          <p:cNvPicPr/>
          <p:nvPr/>
        </p:nvPicPr>
        <p:blipFill>
          <a:blip r:embed="rId1"/>
          <a:stretch/>
        </p:blipFill>
        <p:spPr>
          <a:xfrm>
            <a:off x="3352680" y="2743200"/>
            <a:ext cx="4743720" cy="240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Spreadsheet Format Online</a:t>
            </a: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the first time you create and close the form, each subsequent time will open it automatically in spreadshee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has the same basic features as Microsoft Excel -- formulas can be created, columns can be summed and averaged, etc. Take a moment to look through the different feature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f at any point you need to edit the original form after you have closed it go to Form -- Edit for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y it yourself with the form I have shared with you</a:t>
            </a:r>
            <a:r>
              <a:rPr b="0" lang="en-US" sz="2900" spc="-1" strike="noStrike">
                <a:solidFill>
                  <a:srgbClr val="000000"/>
                </a:solidFill>
                <a:latin typeface="Tw Cen MT"/>
              </a:rPr>
              <a:t>. </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p:txBody>
      </p:sp>
      <p:pic>
        <p:nvPicPr>
          <p:cNvPr id="433" name="Picture 3" descr="share_form.png"/>
          <p:cNvPicPr/>
          <p:nvPr/>
        </p:nvPicPr>
        <p:blipFill>
          <a:blip r:embed="rId1"/>
          <a:stretch/>
        </p:blipFill>
        <p:spPr>
          <a:xfrm>
            <a:off x="6324480" y="3505320"/>
            <a:ext cx="237168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iew Results in Graphic Form</a:t>
            </a:r>
            <a:endParaRPr b="0" lang="en-US" sz="44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other useful feature of Google Docs is that it automatically creates graphs that are easy to access.</a:t>
            </a:r>
            <a:endParaRPr b="0" lang="en-US" sz="1800" spc="-1" strike="noStrike">
              <a:solidFill>
                <a:srgbClr val="000000"/>
              </a:solidFill>
              <a:latin typeface="Tw Cen MT"/>
            </a:endParaRPr>
          </a:p>
        </p:txBody>
      </p:sp>
      <p:pic>
        <p:nvPicPr>
          <p:cNvPr id="436" name="Picture 3" descr="graphic_form.png"/>
          <p:cNvPicPr/>
          <p:nvPr/>
        </p:nvPicPr>
        <p:blipFill>
          <a:blip r:embed="rId1"/>
          <a:stretch/>
        </p:blipFill>
        <p:spPr>
          <a:xfrm>
            <a:off x="0" y="2362320"/>
            <a:ext cx="3200400" cy="3085920"/>
          </a:xfrm>
          <a:prstGeom prst="rect">
            <a:avLst/>
          </a:prstGeom>
          <a:ln w="0">
            <a:noFill/>
          </a:ln>
        </p:spPr>
      </p:pic>
      <p:pic>
        <p:nvPicPr>
          <p:cNvPr id="437" name="Picture 4" descr="graph_example.png"/>
          <p:cNvPicPr/>
          <p:nvPr/>
        </p:nvPicPr>
        <p:blipFill>
          <a:blip r:embed="rId2"/>
          <a:stretch/>
        </p:blipFill>
        <p:spPr>
          <a:xfrm>
            <a:off x="3571920" y="2209680"/>
            <a:ext cx="5572080" cy="4357800"/>
          </a:xfrm>
          <a:prstGeom prst="rect">
            <a:avLst/>
          </a:prstGeom>
          <a:ln w="0">
            <a:noFill/>
          </a:ln>
        </p:spPr>
      </p:pic>
      <p:sp>
        <p:nvSpPr>
          <p:cNvPr id="438" name="Straight Connector 6"/>
          <p:cNvSpPr/>
          <p:nvPr/>
        </p:nvSpPr>
        <p:spPr>
          <a:xfrm>
            <a:off x="3581280" y="220968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wnload Your Form</a:t>
            </a:r>
            <a:endParaRPr b="0" lang="en-US" sz="4400" spc="-1" strike="noStrike">
              <a:solidFill>
                <a:srgbClr val="775f55"/>
              </a:solidFill>
              <a:latin typeface="Tw Cen MT"/>
            </a:endParaRPr>
          </a:p>
        </p:txBody>
      </p:sp>
      <p:sp>
        <p:nvSpPr>
          <p:cNvPr id="440" name=""/>
          <p:cNvSpPr txBox="1"/>
          <p:nvPr/>
        </p:nvSpPr>
        <p:spPr>
          <a:xfrm>
            <a:off x="456840" y="1676520"/>
            <a:ext cx="34290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are two options you might want to use from for the final produc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as an Excel Spreadsheet and continue to manipulate the data. Or…</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can download it as a PDF file so that it can no longer be changed.</a:t>
            </a:r>
            <a:endParaRPr b="0" lang="en-US" sz="2000" spc="-1" strike="noStrike">
              <a:solidFill>
                <a:srgbClr val="000000"/>
              </a:solidFill>
              <a:latin typeface="Tw Cen MT"/>
            </a:endParaRPr>
          </a:p>
        </p:txBody>
      </p:sp>
      <p:sp>
        <p:nvSpPr>
          <p:cNvPr id="44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42" name="Picture 3" descr="download_form.png"/>
          <p:cNvPicPr/>
          <p:nvPr/>
        </p:nvPicPr>
        <p:blipFill>
          <a:blip r:embed="rId1"/>
          <a:stretch/>
        </p:blipFill>
        <p:spPr>
          <a:xfrm>
            <a:off x="4114800" y="1676520"/>
            <a:ext cx="4876920" cy="44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ave Locally</a:t>
            </a:r>
            <a:endParaRPr b="0" lang="en-US" sz="4400" spc="-1" strike="noStrike">
              <a:solidFill>
                <a:srgbClr val="775f55"/>
              </a:solidFill>
              <a:latin typeface="Tw Cen MT"/>
            </a:endParaRPr>
          </a:p>
        </p:txBody>
      </p:sp>
      <p:sp>
        <p:nvSpPr>
          <p:cNvPr id="44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choosing to download it as either an Excel or PDF file, saving it is as easy as saving any other documen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dialog box will appear and will ask you where you want to save it. Just as in the past, it is best to have a standard way of naming evaluation files and placing them in the Shared Secretaries folder (See Slide 15 for naming)</a:t>
            </a:r>
            <a:endParaRPr b="0" lang="en-US" sz="1800" spc="-1" strike="noStrike">
              <a:solidFill>
                <a:srgbClr val="000000"/>
              </a:solidFill>
              <a:latin typeface="Tw Cen MT"/>
            </a:endParaRPr>
          </a:p>
        </p:txBody>
      </p:sp>
      <p:sp>
        <p:nvSpPr>
          <p:cNvPr id="44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to Save Locally Vide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a:t>
            </a:r>
            <a:endParaRPr b="0" lang="en-US" sz="4400" spc="-1" strike="noStrike">
              <a:solidFill>
                <a:srgbClr val="775f55"/>
              </a:solidFill>
              <a:latin typeface="Tw Cen MT"/>
            </a:endParaRPr>
          </a:p>
        </p:txBody>
      </p:sp>
      <p:sp>
        <p:nvSpPr>
          <p:cNvPr id="447" name="PlaceHolder 2"/>
          <p:cNvSpPr>
            <a:spLocks noGrp="1"/>
          </p:cNvSpPr>
          <p:nvPr>
            <p:ph/>
          </p:nvPr>
        </p:nvSpPr>
        <p:spPr>
          <a:xfrm>
            <a:off x="151920" y="1600200"/>
            <a:ext cx="86108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oogle Docs Help - This is a great resource if you want to learn more about Google Docs whether for evaluations or for your own use and interest. You can type in questions or follow the links based on what you are trying to learn.</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fficial Google Docs Blog - Searchable blog allows you to collaborate with others and learn from the creators of Google Docs. Look through tips for using and updates.</a:t>
            </a:r>
            <a:endParaRPr b="0" lang="en-US" sz="2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SM Electronic Evaluation Training Websit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s (cont’d.)</a:t>
            </a: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ing Forms in Google YouTube.com</a:t>
            </a: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r more videos, go to YouTube.com and type in Google Docs form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3"/>
          <p:cNvSpPr/>
          <p:nvPr/>
        </p:nvSpPr>
        <p:spPr>
          <a:xfrm>
            <a:off x="228600" y="1752480"/>
            <a:ext cx="8610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Arial"/>
                <a:hlinkClick r:id="rId1"/>
              </a:rPr>
              <a:t>Google Privacy Polic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 security</a:t>
            </a:r>
            <a:r>
              <a:rPr b="0" lang="en-US" sz="1800" spc="-1" strike="noStrike">
                <a:solidFill>
                  <a:srgbClr val="000000"/>
                </a:solidFill>
                <a:latin typeface="Arial"/>
              </a:rPr>
              <a:t> - taken directly from Google’s Privacy Pol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take appropriate security measures to protect against unauthorized access to or unauthorized alteration, disclosure or destruction of data. These include internal reviews of our data collection, storage and processing practices and security measures, as well as physical security measures to guard against unauthorized access to systems where we store personal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trict access to personal information to Google employees, contractors and agents who need to know that information in order to operate, develop or improve our services. These individuals are bound by confidentiality obligations and may be subject to discipline, including termination and criminal prosecution, if they fail to meet these obligations.” </a:t>
            </a:r>
            <a:endParaRPr b="0" lang="en-US" sz="1800" spc="-1" strike="noStrike">
              <a:solidFill>
                <a:srgbClr val="000000"/>
              </a:solidFill>
              <a:latin typeface="Arial"/>
            </a:endParaRPr>
          </a:p>
        </p:txBody>
      </p:sp>
      <p:sp>
        <p:nvSpPr>
          <p:cNvPr id="365"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formation Secu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 Commen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me at cregan@msmary.edu</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ter questions or comments on the Discussion Boar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3"/>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ta Integrity</a:t>
            </a:r>
            <a:endParaRPr b="0" lang="en-US" sz="4400" spc="-1" strike="noStrike">
              <a:solidFill>
                <a:srgbClr val="000000"/>
              </a:solidFill>
              <a:latin typeface="Arial"/>
            </a:endParaRPr>
          </a:p>
        </p:txBody>
      </p:sp>
      <p:sp>
        <p:nvSpPr>
          <p:cNvPr id="367" name="Rectangle 3"/>
          <p:cNvSpPr/>
          <p:nvPr/>
        </p:nvSpPr>
        <p:spPr>
          <a:xfrm>
            <a:off x="457200" y="1676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457200" y="1752480"/>
            <a:ext cx="8077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ata integ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ogle processes personal information only for the purposes for which it was collected and in accordance with this Privacy Policy or any applicable service-specific privacy notice. We review our data collection, storage and processing practices to ensure that we only collect, store and process the personal information needed to provide or improve our services or as otherwise permitted under this Policy. We take reasonable steps to ensure that the personal information we process is accurate, complete, and current, but we depend on our users to update or correct their personal information whenever necess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C:\Users\cregan\AppData\Local\Microsoft\Windows\Temporary Internet Files\Content.IE5\69PE0ZUL\MCj04325520000[1].png"/>
          <p:cNvPicPr/>
          <p:nvPr/>
        </p:nvPicPr>
        <p:blipFill>
          <a:blip r:embed="rId1"/>
          <a:stretch/>
        </p:blipFill>
        <p:spPr>
          <a:xfrm>
            <a:off x="5200560" y="3340080"/>
            <a:ext cx="3778200" cy="3780000"/>
          </a:xfrm>
          <a:prstGeom prst="rect">
            <a:avLst/>
          </a:prstGeom>
          <a:ln w="0">
            <a:noFill/>
          </a:ln>
        </p:spPr>
      </p:pic>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I read through and model each of the directions, I want you to be following along on your own computer.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ill make sure everybody is set before moving on to different step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you ready?</a:t>
            </a:r>
            <a:endParaRPr b="0" lang="en-US" sz="2900" spc="-1" strike="noStrike">
              <a:solidFill>
                <a:srgbClr val="000000"/>
              </a:solidFill>
              <a:latin typeface="Tw Cen MT"/>
            </a:endParaRPr>
          </a:p>
        </p:txBody>
      </p:sp>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 I: Getting Set-up</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eate a Google Account</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following link will take you to the Google Docs homepage in a new window: </a:t>
            </a:r>
            <a:r>
              <a:rPr b="0" lang="en-US" sz="1800" spc="-1" strike="noStrike" u="sng">
                <a:solidFill>
                  <a:srgbClr val="f7b615"/>
                </a:solidFill>
                <a:uFillTx/>
                <a:latin typeface="Tw Cen MT"/>
                <a:hlinkClick r:id="rId1"/>
              </a:rPr>
              <a:t>http://docs.google.com</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ick on the "Get Started" button in the window that appears.</a:t>
            </a:r>
            <a:endParaRPr b="0" lang="en-US" sz="1800" spc="-1" strike="noStrike">
              <a:solidFill>
                <a:srgbClr val="000000"/>
              </a:solidFill>
              <a:latin typeface="Tw Cen MT"/>
            </a:endParaRPr>
          </a:p>
        </p:txBody>
      </p:sp>
      <p:pic>
        <p:nvPicPr>
          <p:cNvPr id="374" name="Picture 3" descr="google_docs_get_started.png"/>
          <p:cNvPicPr/>
          <p:nvPr/>
        </p:nvPicPr>
        <p:blipFill>
          <a:blip r:embed="rId2"/>
          <a:stretch/>
        </p:blipFill>
        <p:spPr>
          <a:xfrm>
            <a:off x="0" y="3048120"/>
            <a:ext cx="9144000" cy="29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228600"/>
            <a:ext cx="335304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ill out Account Information</a:t>
            </a:r>
            <a:endParaRPr b="0" lang="en-US" sz="4400" spc="-1" strike="noStrike">
              <a:solidFill>
                <a:srgbClr val="775f55"/>
              </a:solidFill>
              <a:latin typeface="Tw Cen MT"/>
            </a:endParaRPr>
          </a:p>
        </p:txBody>
      </p:sp>
      <p:pic>
        <p:nvPicPr>
          <p:cNvPr id="376" name="Picture 4" descr="account information"/>
          <p:cNvPicPr/>
          <p:nvPr/>
        </p:nvPicPr>
        <p:blipFill>
          <a:blip r:embed="rId1"/>
          <a:stretch/>
        </p:blipFill>
        <p:spPr>
          <a:xfrm>
            <a:off x="3581280" y="380880"/>
            <a:ext cx="5397480" cy="6088320"/>
          </a:xfrm>
          <a:prstGeom prst="rect">
            <a:avLst/>
          </a:prstGeom>
          <a:ln w="0">
            <a:noFill/>
          </a:ln>
        </p:spPr>
      </p:pic>
      <p:sp>
        <p:nvSpPr>
          <p:cNvPr id="377" name="Rectangle 5"/>
          <p:cNvSpPr/>
          <p:nvPr/>
        </p:nvSpPr>
        <p:spPr>
          <a:xfrm>
            <a:off x="304920" y="3962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msmary.edu email account to fill out the necessary information marked here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Creation Confirmation</a:t>
            </a:r>
            <a:endParaRPr b="0" lang="en-US" sz="4400" spc="-1" strike="noStrike">
              <a:solidFill>
                <a:srgbClr val="775f55"/>
              </a:solidFill>
              <a:latin typeface="Tw Cen MT"/>
            </a:endParaRPr>
          </a:p>
        </p:txBody>
      </p:sp>
      <p:pic>
        <p:nvPicPr>
          <p:cNvPr id="379" name="Picture 4" descr="account creation confirmation"/>
          <p:cNvPicPr/>
          <p:nvPr/>
        </p:nvPicPr>
        <p:blipFill>
          <a:blip r:embed="rId1"/>
          <a:stretch/>
        </p:blipFill>
        <p:spPr>
          <a:xfrm>
            <a:off x="0" y="2438280"/>
            <a:ext cx="9144000" cy="4025880"/>
          </a:xfrm>
          <a:prstGeom prst="rect">
            <a:avLst/>
          </a:prstGeom>
          <a:ln w="0">
            <a:noFill/>
          </a:ln>
        </p:spPr>
      </p:pic>
      <p:sp>
        <p:nvSpPr>
          <p:cNvPr id="380" name="Rectangle 7"/>
          <p:cNvSpPr/>
          <p:nvPr/>
        </p:nvSpPr>
        <p:spPr>
          <a:xfrm>
            <a:off x="68580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4"/>
          <p:cNvSpPr/>
          <p:nvPr/>
        </p:nvSpPr>
        <p:spPr>
          <a:xfrm>
            <a:off x="228600" y="16002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will appear after you submit your information and create your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ccount Verification</a:t>
            </a:r>
            <a:endParaRPr b="0" lang="en-US" sz="4400" spc="-1" strike="noStrike">
              <a:solidFill>
                <a:srgbClr val="775f55"/>
              </a:solidFill>
              <a:latin typeface="Tw Cen MT"/>
            </a:endParaRPr>
          </a:p>
        </p:txBody>
      </p:sp>
      <p:pic>
        <p:nvPicPr>
          <p:cNvPr id="383" name="Picture 4" descr="account verification"/>
          <p:cNvPicPr/>
          <p:nvPr/>
        </p:nvPicPr>
        <p:blipFill>
          <a:blip r:embed="rId1"/>
          <a:stretch/>
        </p:blipFill>
        <p:spPr>
          <a:xfrm>
            <a:off x="0" y="2079720"/>
            <a:ext cx="9144000" cy="31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8:09:59Z</dcterms:created>
  <dc:creator>cregan</dc:creator>
  <dc:description/>
  <dc:language>en-US</dc:language>
  <cp:lastModifiedBy>cregan</cp:lastModifiedBy>
  <dcterms:modified xsi:type="dcterms:W3CDTF">2009-11-10T16:42:36Z</dcterms:modified>
  <cp:revision>44</cp:revision>
  <dc:subject/>
  <dc:title>Slide 1</dc:title>
</cp:coreProperties>
</file>